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03A-51F0-4C2E-ABBF-34BB8497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8E2-2396-41B2-BAC1-DBF80444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8F7-2D78-4FDE-A795-05F98456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3BB-4159-452A-B2CC-093AF155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5D48-FB3B-411E-B0AE-E95EF338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0485-A264-4168-BE32-6B2E3A34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2971-CFB9-4312-8881-A335DBAF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6E35-705E-4EF9-B470-CC15B93A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A5EB-85E8-4400-A8CA-E996BC63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C939-7B00-49B6-8771-6AFB8521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16CD-C7C8-4673-AFAB-97369F09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5AF-DA40-4E66-8F39-9BDB7878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C8FA-76AF-4D70-B413-1E0EF4BC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1ACC-C78E-423E-A657-CCCE3F52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31F7-BA2C-43C8-B6F7-C72AE098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59F3-0445-4CF9-96FC-22DACA30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24EA-8397-4511-889C-AA6BDED2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999-F591-4F2E-8255-F1A17545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728-713D-47F8-8D73-B23ED966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55E-ED15-46A4-A795-AD2164B8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A559-F084-4E54-BAA5-746496AC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591-C49E-4262-BB87-35D9665F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A13-E861-4BCB-8BDC-8E66DC83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5C6-59B1-4EF8-AB76-9F899FB1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BC12-A10E-4004-8254-7857792F07C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36BC-C962-4DBE-829A-4F9858B3A8E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00120" y="357192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Arial"/>
                <a:ea typeface="Arial"/>
              </a:rPr>
              <a:t>Научная деятельность университета в 2007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1" descr=""/>
          <p:cNvPicPr/>
          <p:nvPr/>
        </p:nvPicPr>
        <p:blipFill>
          <a:blip r:embed="rId1"/>
          <a:stretch/>
        </p:blipFill>
        <p:spPr>
          <a:xfrm>
            <a:off x="3929040" y="18572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Эффективность деятельности диссертационных советов в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7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2920" y="1214280"/>
          <a:ext cx="8713800" cy="2654280"/>
        </p:xfrm>
        <a:graphic>
          <a:graphicData uri="http://schemas.openxmlformats.org/drawingml/2006/table">
            <a:tbl>
              <a:tblPr/>
              <a:tblGrid>
                <a:gridCol w="1944720"/>
                <a:gridCol w="1631880"/>
                <a:gridCol w="1711440"/>
                <a:gridCol w="1712880"/>
                <a:gridCol w="1712880"/>
              </a:tblGrid>
              <a:tr h="71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ифр сов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212.197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212.19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212.197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212.197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12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ечень научных специальностей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 которым проводится защ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30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я, климатология, агрометеор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27 – Гидрология суши, водные ресурсы, гидрохим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28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Океан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35 – Геоинформатика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36 – Геоэк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27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Гидрология суши, водные ресурсы, гидрохим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30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я, климатология, агрометеор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защище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иссерт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Издательская деятельность в 2007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50920" y="836640"/>
          <a:ext cx="5040360" cy="4854600"/>
        </p:xfrm>
        <a:graphic>
          <a:graphicData uri="http://schemas.openxmlformats.org/drawingml/2006/table">
            <a:tbl>
              <a:tblPr/>
              <a:tblGrid>
                <a:gridCol w="3745080"/>
                <a:gridCol w="129528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графии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28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данные российскими издательствами, из ни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дательством «Высшая школ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дательством ву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борники научных трудов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ждународные научные конференции и симпозиу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сбор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ебники и учебные пособи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грифом УМО и НМ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грифом Минобрнауки Росс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другими грифам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тьи, всего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зарубежных изда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российских изда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ебные программы и методические указ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Распределение тем по количеству и объему </a:t>
            </a:r>
            <a:br>
              <a:rPr sz="1800"/>
            </a:b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с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3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по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7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1268280"/>
          <a:ext cx="8785440" cy="4338720"/>
        </p:xfrm>
        <a:graphic>
          <a:graphicData uri="http://schemas.openxmlformats.org/drawingml/2006/table">
            <a:tbl>
              <a:tblPr/>
              <a:tblGrid>
                <a:gridCol w="1551240"/>
                <a:gridCol w="517320"/>
                <a:gridCol w="959040"/>
                <a:gridCol w="517320"/>
                <a:gridCol w="897120"/>
                <a:gridCol w="506160"/>
                <a:gridCol w="957240"/>
                <a:gridCol w="517680"/>
                <a:gridCol w="959040"/>
                <a:gridCol w="517320"/>
                <a:gridCol w="885960"/>
              </a:tblGrid>
              <a:tr h="287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.агентство по обр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Мин.обр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39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77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71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19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58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. агентство по науке и инн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Роснаук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3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3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3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3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20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ъект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13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8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0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44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90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1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49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7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/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14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98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25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14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27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Мин-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2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32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11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рубежные контра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18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77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87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0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бственные сред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8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85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1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 45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2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 8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Распределение тем по факультетам за период с 2003 по 2007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1285920"/>
          <a:ext cx="8605800" cy="4413240"/>
        </p:xfrm>
        <a:graphic>
          <a:graphicData uri="http://schemas.openxmlformats.org/drawingml/2006/table">
            <a:tbl>
              <a:tblPr/>
              <a:tblGrid>
                <a:gridCol w="1476360"/>
                <a:gridCol w="468360"/>
                <a:gridCol w="900000"/>
                <a:gridCol w="503280"/>
                <a:gridCol w="936720"/>
                <a:gridCol w="504720"/>
                <a:gridCol w="934920"/>
                <a:gridCol w="505080"/>
                <a:gridCol w="934920"/>
                <a:gridCol w="504720"/>
                <a:gridCol w="936720"/>
              </a:tblGrid>
              <a:tr h="36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ульт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че-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13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14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5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7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34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45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16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94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65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68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7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50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номическ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соц.-гум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98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4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5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8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8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66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1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 45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2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 8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Основные научные направления РГГ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28760" y="928800"/>
          <a:ext cx="8256600" cy="5519520"/>
        </p:xfrm>
        <a:graphic>
          <a:graphicData uri="http://schemas.openxmlformats.org/drawingml/2006/table">
            <a:tbl>
              <a:tblPr/>
              <a:tblGrid>
                <a:gridCol w="462960"/>
                <a:gridCol w="6166080"/>
                <a:gridCol w="1411920"/>
                <a:gridCol w="2160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, международные прое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7680" y="348840"/>
            <a:ext cx="80773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Сводные сведения о выполнении НИР в 2007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95280" y="1197000"/>
          <a:ext cx="8302680" cy="4776840"/>
        </p:xfrm>
        <a:graphic>
          <a:graphicData uri="http://schemas.openxmlformats.org/drawingml/2006/table">
            <a:tbl>
              <a:tblPr/>
              <a:tblGrid>
                <a:gridCol w="519120"/>
                <a:gridCol w="3632040"/>
                <a:gridCol w="2076480"/>
                <a:gridCol w="207504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точник финансир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ства федерального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67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58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еральное Агентство по науке и иннов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20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7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Минист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11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ства Субъектов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90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27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рубежные контра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10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бственные средства ВУ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85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 8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Сведения по НИР за 2007 год</a:t>
            </a:r>
            <a:br>
              <a:rPr sz="1800"/>
            </a:b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(по факультетам РГГМ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2920" y="1214280"/>
          <a:ext cx="8834400" cy="4975560"/>
        </p:xfrm>
        <a:graphic>
          <a:graphicData uri="http://schemas.openxmlformats.org/drawingml/2006/table">
            <a:tbl>
              <a:tblPr/>
              <a:tblGrid>
                <a:gridCol w="1285920"/>
                <a:gridCol w="285840"/>
                <a:gridCol w="714240"/>
                <a:gridCol w="214200"/>
                <a:gridCol w="811440"/>
                <a:gridCol w="287280"/>
                <a:gridCol w="758880"/>
                <a:gridCol w="214200"/>
                <a:gridCol w="642960"/>
                <a:gridCol w="214200"/>
                <a:gridCol w="571680"/>
                <a:gridCol w="214200"/>
                <a:gridCol w="714240"/>
                <a:gridCol w="285840"/>
                <a:gridCol w="642960"/>
                <a:gridCol w="214200"/>
                <a:gridCol w="762120"/>
              </a:tblGrid>
              <a:tr h="863640">
                <a:tc rowSpan="2">
                  <a:txBody>
                    <a:bodyPr lIns="36000" rIns="36000" tIns="540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ульт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еральное Агентство по науке и иннов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гиональные программы (Санкт-Петербур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мини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рубеж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ые гр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70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7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2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45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94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30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6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8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68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50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50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номическ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4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4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78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4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53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6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66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4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58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0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90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0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 8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76092"/>
                </a:solidFill>
                <a:latin typeface="Arial"/>
                <a:ea typeface="Arial"/>
              </a:rPr>
              <a:t>Сведения по НИР за 2007 год (по факультетам, кафедрам РГГМУ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32000" y="333360"/>
          <a:ext cx="6553080" cy="7120080"/>
        </p:xfrm>
        <a:graphic>
          <a:graphicData uri="http://schemas.openxmlformats.org/drawingml/2006/table">
            <a:tbl>
              <a:tblPr/>
              <a:tblGrid>
                <a:gridCol w="1800000"/>
                <a:gridCol w="2303640"/>
                <a:gridCol w="1152360"/>
                <a:gridCol w="12970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ульте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фед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 т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мма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че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К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09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ческих про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60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Ф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КО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че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физики и гидропро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и суш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5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метр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одезии и гидрогеолог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че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4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П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417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 и ОП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702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НЕСК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853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логи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кладной экологи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82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физ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з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родно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темат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им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лог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номическ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социально-гуманитарных нау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номики и менеджмен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П и У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иально-гуманитарных нау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енная кафед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4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761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рской институт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4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итут геоэкологического инжинириг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37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 819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  <a:ea typeface="Arial"/>
              </a:rPr>
              <a:t>Участие в выставках и конференциях в 2007 г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8440" y="1428840"/>
            <a:ext cx="71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2007 году Университет участвова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5 выставк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том числе 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международных), представи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16 экспонат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36 конференция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из них 30 международных и 6 на базе вуз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прошлый год получи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наград (премий, дипломов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Подготовка высококвалифицированных кадров (аспирантура) в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7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2920" y="1071720"/>
          <a:ext cx="8785080" cy="5959440"/>
        </p:xfrm>
        <a:graphic>
          <a:graphicData uri="http://schemas.openxmlformats.org/drawingml/2006/table">
            <a:tbl>
              <a:tblPr/>
              <a:tblGrid>
                <a:gridCol w="2233440"/>
                <a:gridCol w="574920"/>
                <a:gridCol w="649080"/>
                <a:gridCol w="647640"/>
                <a:gridCol w="648000"/>
                <a:gridCol w="647640"/>
                <a:gridCol w="792000"/>
                <a:gridCol w="649440"/>
                <a:gridCol w="792000"/>
                <a:gridCol w="503280"/>
                <a:gridCol w="647640"/>
              </a:tblGrid>
              <a:tr h="452160">
                <a:tc rowSpan="3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ия аспира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на начало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было до окончания сро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еский выпуск в отчетном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на конец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ч. с защитой диссер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спиранты, обучающиеся за счет средств федерального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ч. аспиранты – граждане Российской Федер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спиранты, обучающиеся по прямым договорам с оплатой стоимости обу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ч. аспиранты – граждане Российской Федер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аспира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ч. аспирантов – граждан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Распределение аспирантов, обучающихся за счет средств ФБ по отраслям науки и специальностям в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7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268280"/>
          <a:ext cx="8802720" cy="5419800"/>
        </p:xfrm>
        <a:graphic>
          <a:graphicData uri="http://schemas.openxmlformats.org/drawingml/2006/table">
            <a:tbl>
              <a:tblPr/>
              <a:tblGrid>
                <a:gridCol w="3310200"/>
                <a:gridCol w="647640"/>
                <a:gridCol w="647280"/>
                <a:gridCol w="720360"/>
                <a:gridCol w="718560"/>
                <a:gridCol w="649080"/>
                <a:gridCol w="647280"/>
                <a:gridCol w="647280"/>
                <a:gridCol w="601560"/>
                <a:gridCol w="216000"/>
              </a:tblGrid>
              <a:tr h="402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науки и специа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на начало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еский выпуск в отчетном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на конец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ч. с защитой диссер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измерительные и управляющие системы (по отрасля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номика и управление народным хозяйств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науки о Зем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я суши, гидрохимия, водные ресур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я, климатология, агрометеор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оинфор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оэк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Подготовка высококвалифицированных кадров (докторантура) в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7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28760" y="1071720"/>
          <a:ext cx="8229600" cy="4611600"/>
        </p:xfrm>
        <a:graphic>
          <a:graphicData uri="http://schemas.openxmlformats.org/drawingml/2006/table">
            <a:tbl>
              <a:tblPr/>
              <a:tblGrid>
                <a:gridCol w="3251160"/>
                <a:gridCol w="1439640"/>
                <a:gridCol w="936720"/>
                <a:gridCol w="1262160"/>
                <a:gridCol w="1339920"/>
              </a:tblGrid>
              <a:tr h="566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ия доктора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на начало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еский выпус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отчетном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конец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58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защитой диссер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кторанты подготовка которых осуществлена за счет средств федерального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кторанты подготовка который осуществлена по прямым договорам с оплатой стоимости обу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доктора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пределение докторантов, обучающихся за счет средств ФБ по отраслям науки и специальностям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я суши водные ресурсы, гидрохим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я, климат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Васильев Роман</cp:lastModifiedBy>
  <dcterms:modified xsi:type="dcterms:W3CDTF">2008-01-24T16:03:37Z</dcterms:modified>
  <cp:revision>324</cp:revision>
  <dc:subject/>
  <dc:title>Итоговая сессия Ученого совета РГГМУ</dc:title>
</cp:coreProperties>
</file>